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F061-9468-432E-986E-38911B71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C00B-5703-4528-99B4-649A5894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8BA1-1BBA-4553-AA97-9D7140B5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88DB-396B-471B-83AD-6AE3B1153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9D1B-B022-471E-B7F1-D6886769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F885-D2B2-4042-8B4F-04ABED65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F71E-DBE8-4D84-ACE9-0DE67AA0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422A-5717-42F3-B7DC-E4D78BB7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7C55-4F7E-44BA-85D4-34AD9EF2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8DC1-A724-4820-AD60-75DAC052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F537-7AA8-4E33-BEF9-E6868851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EB2F-C8CB-4965-AB48-AAF5B8EA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A8A4-517F-4C2A-978F-B6EAFBB1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AA68-72BD-4CA5-A65D-B44D426E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7E2A-68E0-416B-AB82-0C531E4A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8155-2E13-4F99-9B92-3CF0D4B5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0BF1-7E38-40C1-AD30-C15F701E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B8B1-63AF-4D50-94EC-310332F9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0B30-45BA-4834-9CA8-8E01EB40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3841-8EBC-44D3-A2A4-5BFD0099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C03B-F66B-4A64-98AD-B866E40C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6962-6DF3-4BD6-834F-5E7EC00C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34DD-B8C3-46CE-BA2F-7B3B6611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E00F-9C68-457B-B779-99714461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23FF-2792-4060-8AB4-FB71F77EF8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1240"/>
            <a:ext cx="16905240" cy="10793520"/>
            <a:chOff x="-7761240" y="1461240"/>
            <a:chExt cx="16905240" cy="1079352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124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E851-9F54-4E79-ACFC-1432FD83D6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4000" y="1557360"/>
            <a:ext cx="7630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larity about next learning step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8491680" y="4149720"/>
          <a:ext cx="65232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1680" y="4149720"/>
                    <a:ext cx="65232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38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How do we do this</a:t>
            </a:r>
            <a:r>
              <a:rPr b="1" lang="en-AU" sz="4400" spc="-1" strike="noStrike">
                <a:solidFill>
                  <a:srgbClr val="ffcc66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763092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ild expectation with students about the next ste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t into the habit of linking the next steps with the success cri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play progressions of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ach students how to self-assess using the  progr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8491680" y="4149720"/>
          <a:ext cx="65232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1680" y="4149720"/>
                    <a:ext cx="65232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56144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mmon gaps in teaching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77040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Teachers should develop the next steps from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the self-evaluative qu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anecdotal observations/teacher rov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from Success cri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from teacher’s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Teachers should share what they are thinking for the next step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91680" y="4149720"/>
          <a:ext cx="65232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1680" y="4149720"/>
                    <a:ext cx="65232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mmon gap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763092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Where possible, give students choice which increases motivation and eng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Use assessment tools and data to help you work out what n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Write these next steps down somewhere….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8491680" y="4149720"/>
          <a:ext cx="65232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1680" y="4149720"/>
                    <a:ext cx="65232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417080" cy="621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What tools could we use?</a:t>
            </a:r>
            <a:r>
              <a:rPr b="1" lang="en-AU" sz="4400" spc="-1" strike="noStrike">
                <a:solidFill>
                  <a:srgbClr val="ffcc66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763092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T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AR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exempl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8491680" y="4149720"/>
          <a:ext cx="65232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1680" y="4149720"/>
                    <a:ext cx="65232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mplications for practi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763092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ily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ng-term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491680" y="4149720"/>
          <a:ext cx="65232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1680" y="4149720"/>
                    <a:ext cx="65232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990720"/>
            <a:ext cx="7467480" cy="9219960"/>
          </a:xfrm>
          <a:prstGeom prst="blockArc">
            <a:avLst>
              <a:gd name="adj1" fmla="val 10453754"/>
              <a:gd name="adj2" fmla="val 346246"/>
              <a:gd name="adj3" fmla="val 25875"/>
            </a:avLst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1219320"/>
            <a:ext cx="18288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. Shared Clarity about what is to be lear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Arial"/>
              </a:rPr>
              <a:t>Learning Inten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Arial"/>
              </a:rPr>
              <a:t>relev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Arial"/>
              </a:rPr>
              <a:t>Exemplars/ model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Arial"/>
              </a:rPr>
              <a:t>success cri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Arial"/>
              </a:rPr>
              <a:t>chec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36576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25272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. Assessment   Litera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25146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4. Promoting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urth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Lear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4038480"/>
            <a:ext cx="1752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5. Active Refl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4114800"/>
            <a:ext cx="152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6. Shared Clarity about next learning ste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3733920"/>
            <a:ext cx="1828800" cy="7617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1600200"/>
            <a:ext cx="1143000" cy="19051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952520" y="1600200"/>
            <a:ext cx="1295640" cy="19051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019920" y="3352320"/>
            <a:ext cx="1600200" cy="12193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4114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Effective 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3505320"/>
            <a:ext cx="2667240" cy="1981080"/>
          </a:xfrm>
          <a:prstGeom prst="donut">
            <a:avLst>
              <a:gd name="adj" fmla="val 14879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677440" y="4952880"/>
          <a:ext cx="460080" cy="190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77440" y="4952880"/>
                    <a:ext cx="4600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Assessment For Learning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Archway of Teaching Qualiti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5638680"/>
            <a:ext cx="7543800" cy="838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85800" y="5638680"/>
            <a:ext cx="19051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5638680"/>
            <a:ext cx="190476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5867280"/>
            <a:ext cx="69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Building Partnerships for Lear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53280" y="5562720"/>
            <a:ext cx="0" cy="91440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229600" y="5562720"/>
            <a:ext cx="0" cy="91440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ssessment for Learn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ompetency 6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arity About Next Step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4172040"/>
            <a:ext cx="9144000" cy="26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finition of next steps from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arity in the Classroo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3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teacher works from their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teacher communicates the direction to the students “after we have learnt this, what do we learn next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tudents need to ensure that the teaching and learning has direction for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491680" y="4149720"/>
          <a:ext cx="65232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1680" y="4149720"/>
                    <a:ext cx="65232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0" y="304920"/>
            <a:ext cx="8305920" cy="64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What teachers need to kno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763092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rt with the end in m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ject 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ject learning progr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ources to assist with learning progr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8491680" y="4149720"/>
          <a:ext cx="65232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1680" y="4149720"/>
                    <a:ext cx="65232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What students need to know…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0920" y="980640"/>
            <a:ext cx="763092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y should know the big picture for their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y need to have a sense of progression for the next ste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the next step is tangibly connected to the big pi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next step makes sense for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91680" y="4149720"/>
          <a:ext cx="65232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1680" y="4149720"/>
                    <a:ext cx="65232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What students need to kno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63092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y are able to initiate conversations with the teacher about what they need to learn n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y can identify their next learning step from their own self-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y work with their teacher to plan the next unit of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491680" y="4149720"/>
          <a:ext cx="65232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1680" y="4149720"/>
                    <a:ext cx="65232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8360" y="243000"/>
            <a:ext cx="8351640" cy="62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5:24Z</dcterms:created>
  <dc:creator>Judith S Munro-Keene</dc:creator>
  <dc:description/>
  <dc:language>en-US</dc:language>
  <cp:lastModifiedBy> Administrator</cp:lastModifiedBy>
  <cp:lastPrinted>2004-09-27T03:26:07Z</cp:lastPrinted>
  <dcterms:modified xsi:type="dcterms:W3CDTF">2007-05-03T02:41:55Z</dcterms:modified>
  <cp:revision>33</cp:revision>
  <dc:subject/>
  <dc:title>Training</dc:title>
</cp:coreProperties>
</file>